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9E33-8765-4EA6-83A3-347457611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E6F5-66C0-4338-BD0D-5F88995AE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7A72-D00A-4376-A15B-0144D10B8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052-69AB-43BB-9D7A-1A8014D9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7C6-29B8-4A75-8CBF-AE431EAB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A618-85C1-4017-B78D-0AC5ED464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23C-27CA-45E5-9B87-717AC608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BB20-5BE9-4398-996B-C1AFEC25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F8A-009C-48B0-A384-F26FF8C7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D11-F4A8-4462-B65E-8D4FCE12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3CF-C586-4A7C-B980-89825187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482E-CA22-4978-9714-3125F4C5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3A87-358D-4F1F-A29E-DE3A5ED5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AA5-9EB8-4DC7-AD6B-6F6AE9FB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3CC7-3352-47FE-BF44-F9CC2D4E9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F:\Advertising Pictures\Advertising Commericial 003.jpg"/>
          <p:cNvPicPr/>
          <p:nvPr/>
        </p:nvPicPr>
        <p:blipFill>
          <a:blip r:embed="rId1"/>
          <a:stretch/>
        </p:blipFill>
        <p:spPr>
          <a:xfrm>
            <a:off x="-136440" y="-182520"/>
            <a:ext cx="6994440" cy="93265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407200" y="21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0" y="8023320"/>
            <a:ext cx="762120" cy="9763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sp>
        <p:nvSpPr>
          <p:cNvPr id="51" name="Text Box 9"/>
          <p:cNvSpPr/>
          <p:nvPr/>
        </p:nvSpPr>
        <p:spPr>
          <a:xfrm>
            <a:off x="1371600" y="914400"/>
            <a:ext cx="30481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Add some crun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o your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600200" y="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oadway"/>
              </a:rPr>
              <a:t>ORE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4952880" y="8153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Opposites At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8"/>
          <p:cNvSpPr/>
          <p:nvPr/>
        </p:nvSpPr>
        <p:spPr>
          <a:xfrm>
            <a:off x="5867280" y="8610480"/>
            <a:ext cx="838440" cy="381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J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85800" y="8682120"/>
            <a:ext cx="190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Visit us at </a:t>
            </a:r>
            <a:r>
              <a:rPr b="0" i="1" lang="en-US" sz="1200" spc="-1" strike="noStrike">
                <a:solidFill>
                  <a:srgbClr val="000000"/>
                </a:solidFill>
                <a:latin typeface="Impact"/>
              </a:rPr>
              <a:t>JASH inc. Ore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at Facebook.co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22:03:46Z</dcterms:created>
  <dc:creator>John Mordacq</dc:creator>
  <dc:description/>
  <dc:language>en-US</dc:language>
  <cp:lastModifiedBy>J Mordacq PC</cp:lastModifiedBy>
  <dcterms:modified xsi:type="dcterms:W3CDTF">2010-12-13T22:46:59Z</dcterms:modified>
  <cp:revision>19</cp:revision>
  <dc:subject/>
  <dc:title>PowerPoint Presentation</dc:title>
</cp:coreProperties>
</file>